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988-B4B0-442A-AE54-5B41BBD6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8C9-1D50-419F-9D5B-86F1BA84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9AD-E73D-467C-8443-B55C53E0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AC4-C689-4FB6-B325-AF80C0D4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0CC-EC5D-4B7E-9C58-D1BDAA92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028-08A3-46E4-AD11-0F068DB8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A06-5875-41FE-84C3-5F0B03A3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8AF-EFEE-4D51-8669-97607816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0E6-207E-4D1B-9FCE-D27BB454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FDD-5A16-48C9-8B1B-E13CE8F4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7F8-4C93-4D1A-9CBE-832CD1C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491-CDAE-4785-8003-79CCF31D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D8CD-66F1-42EB-BE2E-66A662C01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5:15:40Z</dcterms:created>
  <dc:creator>abeason</dc:creator>
  <dc:description/>
  <dc:language>en-US</dc:language>
  <cp:lastModifiedBy>abeason</cp:lastModifiedBy>
  <dcterms:modified xsi:type="dcterms:W3CDTF">2010-05-11T15:15:44Z</dcterms:modified>
  <cp:revision>1</cp:revision>
  <dc:subject/>
  <dc:title>Slide 1</dc:title>
</cp:coreProperties>
</file>